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AED4-6237-44B1-AC8A-DDB636EA7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DFFE-69A2-4CCC-A17A-2E72C4B98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EDBE-1AF7-4ED3-BBA5-3B84F74D4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29B-F483-456B-84BB-E002D5D5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58F-AB6D-45B5-9651-936003D3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57C-F381-4AEF-8DEF-D244F12D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050-E997-46EB-B554-7243777E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144-A6CD-4672-AB34-5544EB35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40C-DF08-4886-80DF-3786FC3A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2A4-BF21-4C64-86B7-626AF18B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372-36ED-4376-8D17-8A4BD2AD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6DE-9B5A-4D48-AAAF-2EECE718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6BE-6809-403A-A898-D17E2DEA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CEE-CA4F-414C-91BF-577AB5A8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646-757A-4809-BEA8-23D61664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9CB9-0AC3-4ACC-BB8A-8E8BBD799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able 3" descr=""/>
          <p:cNvPicPr/>
          <p:nvPr/>
        </p:nvPicPr>
        <p:blipFill>
          <a:blip r:embed="rId1"/>
          <a:stretch/>
        </p:blipFill>
        <p:spPr>
          <a:xfrm>
            <a:off x="158760" y="1073160"/>
            <a:ext cx="8832960" cy="5321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304920" y="23076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blem Statement 1: We want to create a nutritious alternative to the current snack foods in San Pab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28600" y="6396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Scale: 1 (worst) – 10 (best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All totals out of 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04920" y="41400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blem Statement 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need a way to distribute our pro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28600" y="6396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Scale: 1 (worst) – 10 (best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All totals out of 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Table 4" descr=""/>
          <p:cNvPicPr/>
          <p:nvPr/>
        </p:nvPicPr>
        <p:blipFill>
          <a:blip r:embed="rId1"/>
          <a:stretch/>
        </p:blipFill>
        <p:spPr>
          <a:xfrm>
            <a:off x="231840" y="1146240"/>
            <a:ext cx="85280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1:15:52Z</dcterms:created>
  <dc:creator>ts</dc:creator>
  <dc:description/>
  <dc:language>en-US</dc:language>
  <cp:lastModifiedBy>ts</cp:lastModifiedBy>
  <dcterms:modified xsi:type="dcterms:W3CDTF">2011-01-21T01:31:04Z</dcterms:modified>
  <cp:revision>3</cp:revision>
  <dc:subject/>
  <dc:title>Slide 1</dc:title>
</cp:coreProperties>
</file>